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B84-9220-4390-AC62-147177BA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096-6F38-461A-9390-27E4BAB3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889-054D-4A41-ABAC-B406D0D7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9AD-1AC6-4B48-B254-51B51FA6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2573-4563-4EFC-9273-015EEA2B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0C80-2B1C-4F18-940B-E63FC905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5C8C-8329-4914-8DF9-A8CE9790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156B-469D-4DFF-A5FE-A1DD5C8A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6ECD-B761-44F8-B9EA-44697B7E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5D22-F3AC-4A65-8355-A5E5342C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1D7A-04D4-4272-94A7-AA3C0B5B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578-7DE9-4304-B0C7-286B40CE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6CD2-8EB2-401C-888C-847E2E79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BC59-520D-4C75-8BA9-41115424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C0A8-0C68-41C7-A0B1-9C654D60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ACEF-DCF2-45D1-A88C-99DEDA26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5E27-3427-4466-A786-C03A5EE0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ED0-0755-40FF-B454-9F44EF29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A2E-3F22-47B7-AEBF-3929EADC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E07-A076-442E-9326-6A996E64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2FB-FCC1-4A3B-B0B7-4BAF1A47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8C4-BEC7-4C2D-A1C5-6AC3CC11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B02-DAB4-4495-B7FB-EE2CBD24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3AB8-A607-4DD3-BCD4-0591FBC0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D6C0-23B7-4253-897F-189A25BDD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4F80-EEE5-47A2-9163-24003EF25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2421000"/>
            <a:ext cx="82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ы сред обита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способленность к н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5589720"/>
            <a:ext cx="43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акова Л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 и приспособленность к ней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–по-раз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ровнее, чем на возду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-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пательны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або развиты органы чув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о развито обоняние, осяз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наземно-воздуш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744720" cy="20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52908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60036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643280" y="3860640"/>
            <a:ext cx="338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Кто занимает водную среду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9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2017800" cy="201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84360" y="1844640"/>
            <a:ext cx="2016360" cy="2017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9432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27746E-006 L -2.77778E-007 0.17826 E">
                                      <p:cBhvr>
                                        <p:cTn id="14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4.45087E-006 L -6.11111E-006 0.24115 E">
                                      <p:cBhvr>
                                        <p:cTn id="14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почвен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3628" t="21326" r="51755" b="32552"/>
          <a:stretch/>
        </p:blipFill>
        <p:spPr>
          <a:xfrm>
            <a:off x="179280" y="1916280"/>
            <a:ext cx="2024280" cy="2041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77080" y="1916280"/>
            <a:ext cx="2014560" cy="208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208764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340000" y="191628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4509E-006 L -0.62222 0.38798 E">
                                      <p:cBhvr>
                                        <p:cTn id="15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63785 0.35653 E">
                                      <p:cBhvr>
                                        <p:cTn id="15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Выберите организмы, живущие в водной среде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20000" y="1628640"/>
            <a:ext cx="180000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43280" y="1628640"/>
            <a:ext cx="180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7884 L 0.004 0.41433 E">
                                      <p:cBhvr>
                                        <p:cTn id="16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44509E-006 L -5.55556E-007 0.30404 E">
                                      <p:cBhvr>
                                        <p:cTn id="16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ыберите правильное утверждение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Летучие мыши населяют наземно-воздуш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У всех водных животных орган передвижения-плав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Изменение температуры воздуха - это фактор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ельфин и акула имеют внешнее сходство, потому что населяют одну и ту же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Большинство насекомых занимает вод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иявки занимают водную среду об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На растения оказывают влияние только факторы неживой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У  крота плоские передние лапы с большими когтями, так как он живет в поч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114-1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62864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реда обитания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это все то, что окружает организм и прямо или косвенно на него влия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68360" y="47628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кторы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240" y="3130560"/>
            <a:ext cx="29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45086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3213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19280" y="1125360"/>
            <a:ext cx="165744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125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1125360"/>
            <a:ext cx="1152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24000" y="33336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еда об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70028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емно-возду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844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19162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76360" y="981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9810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981000"/>
            <a:ext cx="1368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2837" t="34236" r="27556" b="-378"/>
          <a:stretch/>
        </p:blipFill>
        <p:spPr>
          <a:xfrm>
            <a:off x="3203640" y="234936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2987640" cy="364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35640" y="3213000"/>
            <a:ext cx="2808360" cy="36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Наземно-воздушная среда обитания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3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00720" y="1916280"/>
            <a:ext cx="2374920" cy="230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68360" y="4581360"/>
            <a:ext cx="2232360" cy="208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788000" y="4581360"/>
            <a:ext cx="2303280" cy="208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- не всег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значительно 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ехватке воды- запас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опад, отлет птиц, смена шер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но передвигаются- бег, прыжки, по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одная среда обитания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376360" cy="230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84720" y="1628640"/>
            <a:ext cx="2303640" cy="2233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63640" y="4221000"/>
            <a:ext cx="223200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427640" y="4221000"/>
            <a:ext cx="2376360" cy="230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419640" y="1628640"/>
            <a:ext cx="216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обитания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-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 не 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 – меняется мень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– не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пособления для пла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я живут у поверх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отные живут повсеме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Примеры животных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2055960"/>
            <a:ext cx="3662280" cy="3519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749" t="21029" r="50938" b="34889"/>
          <a:stretch/>
        </p:blipFill>
        <p:spPr>
          <a:xfrm>
            <a:off x="5003640" y="2060640"/>
            <a:ext cx="3529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38:18Z</dcterms:created>
  <dc:creator>User</dc:creator>
  <dc:description/>
  <dc:language>en-US</dc:language>
  <cp:lastModifiedBy>КарМаН</cp:lastModifiedBy>
  <dcterms:modified xsi:type="dcterms:W3CDTF">2011-11-02T13:20:23Z</dcterms:modified>
  <cp:revision>9</cp:revision>
  <dc:subject/>
  <dc:title>Слайд 1</dc:title>
</cp:coreProperties>
</file>